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png" ContentType="image/png"/>
  <Override PartName="/ppt/media/image7.jpeg" ContentType="image/jpeg"/>
  <Override PartName="/ppt/media/image9.gif" ContentType="image/gif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75E7-F524-41FB-9B83-FE90EBC2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96200"/>
            <a:ext cx="822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FF3B-D9C9-4A10-BE17-1F287775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9620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A6FF-6BD5-4753-A2A1-540FFBFE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96200"/>
            <a:ext cx="264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96200"/>
            <a:ext cx="264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96200"/>
            <a:ext cx="264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0C93-463D-4CA0-B4FF-92A4AE08A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C7D4-1EAE-4E6A-B66F-FD3640CAF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2D78-0C6D-44F8-A32B-F20ADDA4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7C06-2C89-4C4B-95ED-6742830E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B9BF-9733-4364-98B8-E3A170BC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D2AC-7CBE-4B6B-BED4-55A720FE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1678-6450-4BD8-A711-0192D673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2417-D4BD-4405-8BED-02D6BF3E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9082-58D8-4F97-9C3F-30846115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79620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CB14-53F4-481E-A852-93D86232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822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FBBB-4BA4-4CC5-8B6D-9A32E17D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796200"/>
            <a:ext cx="822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9F54-013D-4A26-9D33-62CD0003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79620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0030-E0CA-4D54-AF73-9F66A7649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796200"/>
            <a:ext cx="264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796200"/>
            <a:ext cx="264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796200"/>
            <a:ext cx="264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6E46-8544-4510-8B1C-FAF664DF8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A280-4B0D-4462-9AA8-E825A879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4B16-AEAD-4EC6-A259-5DA21B5E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965C-B27F-4081-9142-06B31BD7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A5D1-E628-4566-9A7F-A90C2A34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1024-B0D9-4361-B0CE-3D30A862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9620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94C8-1BCF-425F-AADE-A92CF405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822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18D0-636B-4ECA-942F-7F3998C9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4878-5ADE-4B4A-9095-2CEDD329D8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9595-8DD0-4158-9D34-098E0B69BF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246960" y="2466720"/>
            <a:ext cx="10149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Язык химии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Знаки химических элементов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755640" y="692280"/>
            <a:ext cx="7686720" cy="52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-4521240" y="-73080"/>
            <a:ext cx="18186480" cy="57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Monotype Corsiva"/>
              </a:rPr>
              <a:t>Относительная атомная масс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томы элементов характеризую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пределённой (только им присущей) массо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пример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асса атома 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равна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,67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10</a:t>
            </a:r>
            <a:r>
              <a:rPr b="1" lang="ru-RU" sz="2400" spc="-1" strike="noStrike" baseline="30000">
                <a:solidFill>
                  <a:srgbClr val="ff0000"/>
                </a:solidFill>
                <a:latin typeface="Times New Roman"/>
              </a:rPr>
              <a:t>−23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тома С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−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,995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10</a:t>
            </a:r>
            <a:r>
              <a:rPr b="1" lang="ru-RU" sz="2400" spc="-1" strike="noStrike" baseline="30000">
                <a:solidFill>
                  <a:srgbClr val="ff0000"/>
                </a:solidFill>
                <a:latin typeface="Times New Roman"/>
              </a:rPr>
              <a:t>−23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г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тома О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−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,66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10</a:t>
            </a:r>
            <a:r>
              <a:rPr b="1" lang="ru-RU" sz="2400" spc="-1" strike="noStrike" baseline="30000">
                <a:solidFill>
                  <a:srgbClr val="ff0000"/>
                </a:solidFill>
                <a:latin typeface="Times New Roman"/>
              </a:rPr>
              <a:t>−23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г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льзоваться такими малыми значения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удобн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этому введено понятие о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относительной атомной массе А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торая равна 1/12 массы атома углерод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. е. 1,66 · 10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</a:rPr>
              <a:t>–24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 г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32000" y="1122120"/>
            <a:ext cx="698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1 октября 1803 год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Манчестерском философском обществ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Дж. Дальтон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представи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ервую таблицу атомных масс элем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на назвалас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«Первая таблиц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относительных весов конечных частиц тел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Рисунок 2" descr="i2.jpg"/>
          <p:cNvPicPr/>
          <p:nvPr/>
        </p:nvPicPr>
        <p:blipFill>
          <a:blip r:embed="rId2"/>
          <a:stretch/>
        </p:blipFill>
        <p:spPr>
          <a:xfrm>
            <a:off x="3492360" y="4149720"/>
            <a:ext cx="25434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ЗНАЕТЕ  ЛИ  ВЫ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00720" y="3213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564000" y="2852640"/>
            <a:ext cx="192096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-360" y="148428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амый тяжелый из природных элементов –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уран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U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Фтор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– самый яростный в царстве неметаллов, ничто не может устоять под его «натиском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я самого редкого элемента на Земле –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астат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At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В толще земной коры его содержится всего 69 м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читается, что самое неудачное название элемента имеет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азот 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По-гречески "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а-зоос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" означает "безжизненный". Но этот газ, входящий в состав воздуха, вовсе не ядовит, он просто непригоден для дыхания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2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В честь стран названы следующие элементы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Mg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 (№ 12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магний - полуостров Магнез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Sc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 (№ 21)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скандий - Скандинав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Cu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 (№ 29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медь - остров Кип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Ge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 (№ 3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германий - Герм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Ru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 (№ 44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рутений - Росс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Fr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 (№ 87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франций - Фран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16000" y="982440"/>
            <a:ext cx="7201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В честь ученых названы элемент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d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 (№ 101)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– менделевий – Д.И. Менделе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o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 (№ 102)</a:t>
            </a: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нобелий – А. Ноб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Cm (№ 96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юрий – Пьер и Мария Кюр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Es (№ 99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йнштейний – А.Эйнштей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Fm (№ 100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ермий – Э.Фер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Lr (№ 103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оуренсий – Э.Лоурен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Rf (№ 104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зерфордий – Э.Резерфор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Bh (№ 107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орий – Н.Бо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Mt (№ 109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йтнерий – Л.Мейтне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820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Есть названия элементо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обязанные собой цвету простых веществ и соедин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ера S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от индийского "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сир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" - светло-желтый цвет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хлор Cl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от греческого "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хлорос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" - зеленый)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иод</a:t>
            </a: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 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от греческого "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иодес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" - фиолетовый)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хром Cr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разовано от греческого "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хром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" - окрашенный, из-за разнообразной окраски соединений этого элемента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зван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бром Br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осмий Os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исходят от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реческих слов "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бромос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" и "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осм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", означающих "зловоние", "запах"; понятно, что именно было самым сильным впечатлением химиков, открывших эти элемент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Элементы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названные именами богов и героев Древней Греци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титан 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ниобий N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тантал 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прометий P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ванадий V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ПОИГРАЕМ!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564000" y="3068640"/>
            <a:ext cx="18446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4360" y="1700280"/>
            <a:ext cx="755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Другого ничего в природе нет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Ни здесь, ни там, в космических глубинах: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Все - от песчинок малых до планет -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Из элементов состоит единых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15680" y="3693960"/>
            <a:ext cx="46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тепан Щипачев «Читая Менделеев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ШУТОЧНЫЕ ВОПРОСЫ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29840" y="1628640"/>
            <a:ext cx="8713800" cy="42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ой элемент всегда рад?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ой газ утверждает, что он – это не он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ой элемент может воду «родить»?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ой элемент состоит из 2 животных?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ой элемент «вращается» вокруг Солнца?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ой элемент является «гигантом»?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Monotype Corsiva"/>
              </a:rPr>
              <a:t>ЛОГОРИФ 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з названия, какого химического элемента, выбросив первые две буквы, можно получить название одной из распространенных игр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(Золото – лот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з названия, какого химического элемента, выбросив последнюю букву, можно получить слово - клич, с которым солдаты идут в атаку, а мирные люди – на парад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(Уран – ур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 названию, какого химического элемента можно добавить в конце две буквы и получить название корабля, который затонул, столкнувшись с айсбергом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(Титан – Титани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 названию, какого химического элемента можно добавить в конце три буквы, чтобы получить имя героя древнегреческого мифа, отправившегося в Колхиду за золотым рун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(Аргон – Аргонав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МЕТОГРАММА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Из названия, какого химического элемента, заменяя первую букву на другую, можно получить слово, обозначающее назван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олива между Европой и Азией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(Фосфор – Босфор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местность, где в почве много во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(Золото – болото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азвание инструмен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(Золото – долото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з названи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какого химического элемента, заменяя последнюю букву на другую, можно получить слово, обозначающее название горной системы, являющейся границей между Европой и Азие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(Уран – Ура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АНАГРАММА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з названия, какого химического элемента, заменяя последнюю букву и читая с конца, можно получить слово, обозначающее название животного, которое может быть и домашним и дики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(Азот – коз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з названия, какого химического элемента, переставляя первую букву в конец, можно получить назван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лезного ископаемо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(Фтор – торф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дного из видов четырехуголь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(Бром – ромб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03280" y="148428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0160" y="2851920"/>
            <a:ext cx="813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§ 7, упр. 16, 17 (с. 25), § 8, упр. 18, 19 (с. 25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ыучить знаки химических элемен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780000" y="4221000"/>
            <a:ext cx="17269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4360" y="2133720"/>
            <a:ext cx="813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052640"/>
            <a:ext cx="8281800" cy="70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Monotype Corsiva"/>
              </a:rPr>
              <a:t>РУССКИЙ ЯЗЫ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буквы                слова            предло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Monotype Corsiva"/>
              </a:rPr>
              <a:t>ХИМ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знаки химических элемент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химические формулы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уравнения химических реакци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11280" y="2133720"/>
            <a:ext cx="576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03640" y="2133720"/>
            <a:ext cx="576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4365720"/>
            <a:ext cx="0" cy="360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27640" y="5013360"/>
            <a:ext cx="0" cy="360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36480" y="1844280"/>
            <a:ext cx="85075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Древнегреческие мудрецы первыми сказали слово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"элемент"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и произошло это за пять веков до нашей эры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«Элементами" у древних греков считались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земля, вода, воздух и огонь.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ruka" descr=""/>
          <p:cNvPicPr/>
          <p:nvPr/>
        </p:nvPicPr>
        <p:blipFill>
          <a:blip r:embed="rId2"/>
          <a:stretch/>
        </p:blipFill>
        <p:spPr>
          <a:xfrm>
            <a:off x="4067280" y="4581360"/>
            <a:ext cx="11700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2090880" cy="2665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764400" y="3573360"/>
            <a:ext cx="2173320" cy="2997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195640" y="1700280"/>
            <a:ext cx="457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Times New Roman"/>
              </a:rPr>
              <a:t>Понят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Times New Roman"/>
              </a:rPr>
              <a:t>химического элемент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Times New Roman"/>
              </a:rPr>
              <a:t>ввел в наук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Times New Roman"/>
              </a:rPr>
              <a:t>английский ученый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Роберт Бойл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Times New Roman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3ebf1"/>
                </a:solidFill>
                <a:latin typeface="Times New Roman"/>
              </a:rPr>
              <a:t>определение дано был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Джоном Дальтоном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348000" y="1052640"/>
            <a:ext cx="5338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bf1"/>
                </a:solidFill>
                <a:latin typeface="Times New Roman"/>
              </a:rPr>
              <a:t>Первую символику по обозначению химического элемента в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814 год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3ebf1"/>
                </a:solidFill>
                <a:latin typeface="Times New Roman"/>
              </a:rPr>
              <a:t>предложил шведский ученый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Йенс-Якоб  Берцелиу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bf1"/>
                </a:solidFill>
                <a:latin typeface="Times New Roman"/>
              </a:rPr>
              <a:t>Он предложил в качестве символов элементов использовать  первую букву их латинских названий, а в случае совпадения первых букв - использовать и вторую букв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264168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11280" y="1986120"/>
            <a:ext cx="7921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водород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(по-латыни "гидрогениум",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H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drogenium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кислород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по-латыни "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ксигениум",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O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ygenium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углерод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(по-латыни "карбонеум",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rboneum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фтор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(по-латыни «флюорум"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uorum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желез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(по-латыни "феррум"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rrum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золот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(по-латыни "аурум",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u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rum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звестно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110 химических элементов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ичем на земле установлен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уществование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89 элементов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стальные элементы получены искусственным путе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Химический элемент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–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это определенный вид атом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се известные химические элементы находятся в таблице элемент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.И. Менделеев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03:56:25Z</dcterms:created>
  <dc:creator>User</dc:creator>
  <dc:description/>
  <cp:keywords/>
  <dc:language>en-US</dc:language>
  <cp:lastModifiedBy>User</cp:lastModifiedBy>
  <dcterms:modified xsi:type="dcterms:W3CDTF">2009-07-21T18:49:15Z</dcterms:modified>
  <cp:revision>2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080221049</vt:lpwstr>
  </property>
</Properties>
</file>